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122525" cy="2138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F54CDD-7BCB-4A13-ABB0-362E2A3D2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6160" y="685800"/>
            <a:ext cx="242532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943CC0-EE53-4367-B741-AE9D00ADFC9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1360980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56000" y="11483280"/>
            <a:ext cx="1360980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00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772956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7880" y="500436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59400" y="500436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6000" y="1148328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357880" y="1148328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9959400" y="1148328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56000" y="5004360"/>
            <a:ext cx="1360980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1360980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9800" cy="165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5600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72956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6000" y="11483280"/>
            <a:ext cx="1360980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  <Words>48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29:47Z</dcterms:modified>
  <cp:revision>7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